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C1B6-E2C9-411B-99E1-65B85AE22753}" type="slidenum">
              <a:rPr b="0" lang="sw-K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3276-39B6-4566-A3AC-1B1B0123AC3E}" type="slidenum">
              <a:rPr b="0" lang="sw-K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0373-FD1E-424A-94D4-F95D30DAD005}" type="slidenum">
              <a:rPr b="0" lang="sw-K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C25-C014-4041-A218-AA919970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173-18F2-4AA7-ABD8-E957CE76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84D-B290-4C42-B5B6-40E99D88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7FB-3D5E-4A13-82C8-06249EE2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A0C-638F-4C69-A62D-DABBB9BD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A02-6B4A-4421-A3FE-A6F86D9D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CFB-FC1C-4664-9B66-4F7BF962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7B1-8780-43A2-91AF-5414981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BA4-7FB7-44C8-B356-9CA5234F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6A7-3BAB-4D81-822F-C80AAB7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A72-4FC6-4E43-BA2D-2DEA011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689-7140-4596-BCEE-16A1DB2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ECC-C430-409D-B17A-CB96968890D4}" type="slidenum">
              <a:rPr b="0" lang="sw-K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Wolmera%20woreda/Rob-Gebya%20Techfit%20(Wolmera).xl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airy%20projection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Questions_to_arrive_at_context_scores_-_alan%5B1%5Dbl.doc" TargetMode="External"/><Relationship Id="rId2" Type="http://schemas.openxmlformats.org/officeDocument/2006/relationships/hyperlink" Target="file:///Context%20attribute%20score.docx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Dairy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Holett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28-29 May, 2012, A.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deada"/>
                </a:solidFill>
                <a:latin typeface="Calibri"/>
              </a:rPr>
              <a:t>Application of “Techfit” tool for prioritization of feed technologies for smallholder dairy produc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8534520" y="5486400"/>
            <a:ext cx="6094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0" y="5486400"/>
            <a:ext cx="762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gular Pentagon 3"/>
          <p:cNvSpPr/>
          <p:nvPr/>
        </p:nvSpPr>
        <p:spPr>
          <a:xfrm>
            <a:off x="0" y="304920"/>
            <a:ext cx="4267080" cy="6095880"/>
          </a:xfrm>
          <a:prstGeom prst="pentagon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cc"/>
                </a:solidFill>
                <a:latin typeface="Calibri"/>
              </a:rPr>
              <a:t>Total lists of possibl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cc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cc"/>
                </a:solidFill>
                <a:latin typeface="Calibri"/>
              </a:rPr>
              <a:t>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Callout 4"/>
          <p:cNvSpPr/>
          <p:nvPr/>
        </p:nvSpPr>
        <p:spPr>
          <a:xfrm>
            <a:off x="5486400" y="2133720"/>
            <a:ext cx="3429000" cy="2819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2400" spc="-1" strike="noStrike">
                <a:solidFill>
                  <a:srgbClr val="0000cc"/>
                </a:solidFill>
                <a:latin typeface="Calibri"/>
              </a:rPr>
              <a:t>Technologies subjected to ranking for th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2400" spc="-1" strike="noStrike">
                <a:solidFill>
                  <a:srgbClr val="0000cc"/>
                </a:solidFill>
                <a:latin typeface="Calibri"/>
              </a:rPr>
              <a:t>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2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5"/>
          <p:cNvSpPr/>
          <p:nvPr/>
        </p:nvSpPr>
        <p:spPr>
          <a:xfrm>
            <a:off x="3962520" y="3124080"/>
            <a:ext cx="1600200" cy="1067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1600" spc="-1" strike="noStrike">
                <a:solidFill>
                  <a:srgbClr val="ffffff"/>
                </a:solidFill>
                <a:latin typeface="Calibri"/>
              </a:rPr>
              <a:t>Area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3809880" y="228600"/>
            <a:ext cx="39625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chnology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294920"/>
            <a:ext cx="8382240" cy="533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he selected technologies were then subjected to pre-filter based on the context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ext relevance X Impact potential sc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otal contex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echnologies with high total context scores were subjected to the main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xt attribute scores given by farmers were entered into the TechFit Excel template corresponding to each of the pre-filtered technologies  and the technologies were ranked based on their total score (sum of context attribute X technology attribute scores for the five attributes)  </a:t>
            </a:r>
            <a:r>
              <a:rPr b="0" lang="sw-K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066680"/>
            <a:ext cx="8610480" cy="5639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to 8 top ranking technologies (based on total score) were identified for each of the villages under the two wor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and labour requirements – major determinants for ranking th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 with high context relevance, but which require more land and labour ranked lower – those w/c do not require land and labour highly favored by the rank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w-KE" sz="2400" spc="-1" strike="noStrike">
                <a:solidFill>
                  <a:srgbClr val="000000"/>
                </a:solidFill>
                <a:latin typeface="Calibri"/>
              </a:rPr>
              <a:t>Rob-Gebya, Berfata, Jate, Mechela-Wer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servations and 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914040"/>
            <a:ext cx="8534160" cy="5715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Some farmers` indegionous practices that may need to be included in the lists of technologies – </a:t>
            </a:r>
            <a:r>
              <a:rPr b="0" lang="sw-KE" sz="2800" spc="-1" strike="noStrike">
                <a:solidFill>
                  <a:srgbClr val="ff0000"/>
                </a:solidFill>
                <a:latin typeface="Calibri"/>
              </a:rPr>
              <a:t>e.g. Re-threshing and mixing of different crop residues, use of oats grain and hull as an alternative to wheat b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Farmers` contexts highly varied within a woreda and even a village – need for screening technologies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esults contrary to the ground reality emerged from the ranking proces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e.g. Local brewery waste Vs native hay at Wuch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/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to generate the data required to do cost-benefit analysis on the short-lis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uggestions for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1142640"/>
            <a:ext cx="8610480" cy="525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attention should be given for the technology pre-filter process –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lso inclusion of available indigenous practic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 may be clustered and ranked within their clusters than holistic ra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gh ranking technologies from each cluster may be subjected to further per-wise ranking by farmers for targeting interven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7030a0"/>
                </a:solidFill>
                <a:latin typeface="Bradley Hand ITC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502920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can0020"/>
          <p:cNvPicPr/>
          <p:nvPr/>
        </p:nvPicPr>
        <p:blipFill>
          <a:blip r:embed="rId1"/>
          <a:stretch/>
        </p:blipFill>
        <p:spPr>
          <a:xfrm>
            <a:off x="7010280" y="1219320"/>
            <a:ext cx="21337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sentation 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troduction (TechFit backgrou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thodology (The testing proc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allenges and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uggestions for improvement of the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599840"/>
            <a:ext cx="868680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Smallholder </a:t>
            </a:r>
            <a:r>
              <a:rPr b="0" lang="sw-KE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airy production</a:t>
            </a: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– Dominant (&gt;95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Feed among the major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The need for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Research efforts (NARS, IL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Basket of alternative feed technologies generated and recomm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Limited applications by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447920"/>
            <a:ext cx="868680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approach for prioritizing feed technologies for targeting interventions lac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echFit – a tool developed as reme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filter and prioritize best bet technologies from a basket of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combining scores of technology and context attributes to arrive at an overall score for how a technology is likely to fit a particular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 farmers’ context to tech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4424400"/>
        </p:xfrm>
        <a:graphic>
          <a:graphicData uri="http://schemas.openxmlformats.org/drawingml/2006/table">
            <a:tbl>
              <a:tblPr/>
              <a:tblGrid>
                <a:gridCol w="2666880"/>
                <a:gridCol w="1067040"/>
                <a:gridCol w="3429000"/>
                <a:gridCol w="10666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technology attribute (req`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context attribute (availabilit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1" name="TextBox 5"/>
          <p:cNvSpPr/>
          <p:nvPr/>
        </p:nvSpPr>
        <p:spPr>
          <a:xfrm>
            <a:off x="457200" y="5943600"/>
            <a:ext cx="8077320" cy="6426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echnology demands land =&gt; low score for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rmers do not have or very small land holding =&gt; Low score for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est the application of the tool to rank and prioritize suitable feed technologies for smallholder dairy production in Wolmera and Wuchale woredas in the central highlands of Ethio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294920"/>
            <a:ext cx="8610480" cy="483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Parties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EIAR – Holetta (a team of 4 expe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Woreda offices of agri – Livestock dev`t exp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Village 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Village chair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Selecte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447920"/>
            <a:ext cx="8610480" cy="4830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wo villages with contrasting dairy production in each wore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One village – market oriented dairy production using crossbred c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The other village – no market oriented dairying (local co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12 – 14 farmers (2-5 women) selected in each kebele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ying land ownership, gender, age groups and affiliation to market oriented dairy productio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400" spc="-1" strike="noStrike">
                <a:solidFill>
                  <a:srgbClr val="000000"/>
                </a:solidFill>
                <a:latin typeface="Calibri"/>
              </a:rPr>
              <a:t>FGD held using a </a:t>
            </a:r>
            <a:r>
              <a:rPr b="0" lang="sw-K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kecklist</a:t>
            </a:r>
            <a:r>
              <a:rPr b="0" lang="sw-KE" sz="2400" spc="-1" strike="noStrike">
                <a:solidFill>
                  <a:srgbClr val="000000"/>
                </a:solidFill>
                <a:latin typeface="Calibri"/>
              </a:rPr>
              <a:t> to assess context of the farmers (availabilities of land, labour, credit, inputs and knowledge) that would enable possibl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rmers were encouraged to debate on each of the points and reach consensus fo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ring with their just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4" descr="C:\Users\Hp\AppData\Local\Microsoft\Windows\Temporary Internet Files\Content.Word\Survey (Early May, 2012) 081.jpg"/>
          <p:cNvPicPr/>
          <p:nvPr/>
        </p:nvPicPr>
        <p:blipFill>
          <a:blip r:embed="rId3"/>
          <a:stretch/>
        </p:blipFill>
        <p:spPr>
          <a:xfrm>
            <a:off x="4572000" y="160020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8:22:46Z</dcterms:created>
  <dc:creator>user</dc:creator>
  <dc:description/>
  <dc:language>en-US</dc:language>
  <cp:lastModifiedBy>PBallantyne</cp:lastModifiedBy>
  <dcterms:modified xsi:type="dcterms:W3CDTF">2012-05-30T07:00:49Z</dcterms:modified>
  <cp:revision>573</cp:revision>
  <dc:subject/>
  <dc:title>TERMINAL EVALUATION OF  PARTNERSHIP FOR FOOD SECURITY PHASE II (PFS-II) PROJECT, BATI DISTRICT, AMHARA NATIONAL REGIONAL STATE</dc:title>
</cp:coreProperties>
</file>